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35D4-022E-437E-98F3-F3CC97BC5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C9F5-84F4-431A-90A6-180A5A25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AA4D-5D46-4445-8398-078D5AAF2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29BF-158D-4EB5-86DC-FD3F7290C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7269-8D0C-40A4-BE16-5E7E42FA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77FB-76CF-45E5-BAC1-5EA1A080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65FF-DB59-4761-9F6B-D66E18BE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D5F0-89AA-4608-A257-DEA33E63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BF95-1BBE-4724-B762-19E94767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5097-F40B-467F-842F-7AEFEBBB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C842-C0E7-49C7-BF45-97E48A4B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016D-A48D-495E-BD94-C97DBD86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F319-5768-4922-A6D9-7344AF4CA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324480" y="304920"/>
            <a:ext cx="2590920" cy="59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ني حبةُ القمح ذقتُ الموتَ كي أحيا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33520"/>
            <a:ext cx="2819520" cy="86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قلبي مِن طَعنِ الرُمحِ أسقى حبَّه الدنيا قوتاً روحيا حي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924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28600"/>
            <a:ext cx="89154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للرسلِ قالَ الربُّ  لِم أنتُم مَحزونونا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لا تأسَوا لا تغتموا لاسلطانَ في الدنيا يَغلبُ المُحبين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7499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228600"/>
            <a:ext cx="3276720" cy="91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المجدِ يومي آتٍ طالعٌ من بحرِ النور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 خفقِ نصرٍ حيٍ يعلو هاماتِ الدهورْ إذ إني نورٌ من نورْ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9:57:03Z</dcterms:created>
  <dc:creator>SUZANNE.MD</dc:creator>
  <dc:description/>
  <dc:language>en-US</dc:language>
  <cp:lastModifiedBy>HANI SAFI</cp:lastModifiedBy>
  <dcterms:modified xsi:type="dcterms:W3CDTF">2003-04-17T11:12:33Z</dcterms:modified>
  <cp:revision>2</cp:revision>
  <dc:subject/>
  <dc:title>PowerPoint Presentation</dc:title>
</cp:coreProperties>
</file>